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B68EF-1288-4FDD-88CA-CA206771A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BB8A9-7461-4030-8A30-34E59DF53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CB8A5-E9B0-45F8-915D-ED9366BDD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C45B2-AC6F-4155-8B8C-66840B476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A48C8-5836-43FC-9F81-5AAA7D213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24BC-FB6B-402C-96D3-EDD6A29B3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58CB9-8E5B-45E0-88B3-656DBAD90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6773B-F22A-4866-83A1-4DA2787A6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FB21F-9BA1-4E36-AA66-9B14D16E0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A53D3-3DDF-45B0-B06C-9A95DCE75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B30A5-44A4-48E2-9425-94B683AB6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95F72-E642-4D98-9FC3-BF876D849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4BAD8-1B1A-4D59-8F03-12A7BB68ABB1}" type="datetime">
              <a:rPr b="0" lang="lt-LT" sz="1200" spc="-1" strike="noStrike">
                <a:solidFill>
                  <a:srgbClr val="898989"/>
                </a:solidFill>
                <a:latin typeface="Calibri"/>
              </a:rPr>
              <a:t>2026 metų liepos mėnesio 31 diena</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88958-9955-49BB-B37C-3CAE30A6FE68}"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lrkm.lt/leidb/lt/lldb.html" TargetMode="External"/><Relationship Id="rId2" Type="http://schemas.openxmlformats.org/officeDocument/2006/relationships/hyperlink" Target="http://stirna.info/"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4400" spc="-1" strike="noStrike">
                <a:solidFill>
                  <a:srgbClr val="000000"/>
                </a:solidFill>
                <a:latin typeface="Calibri"/>
              </a:rPr>
              <a:t>Žodžio laisvė ir versl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898989"/>
                </a:solidFill>
                <a:latin typeface="Calibri"/>
              </a:rPr>
              <a:t>Kodėl kartais žurnalistas priverstas pamiršti nešališkumą?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ip sužinoti, kas yra žiniasklaidos priemonės savininka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tatymo numatyta tvarka, žiniasklaidos priemonės kasmet privalo pranešti apie akcininkų sudėtį. Informacija skelbiama duomenų bazėje: </a:t>
            </a:r>
            <a:r>
              <a:rPr b="0" lang="lt-LT" sz="3200" spc="-1" strike="noStrike" u="sng">
                <a:solidFill>
                  <a:srgbClr val="0000ff"/>
                </a:solidFill>
                <a:uFillTx/>
                <a:latin typeface="Calibri"/>
                <a:hlinkClick r:id="rId1"/>
              </a:rPr>
              <a:t>http://www.lrkm.lt/leidb/lt/lldb.htm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nformaciją apie žiniasklaidos priemonių savininkus kasmet atnaujina ir </a:t>
            </a:r>
            <a:r>
              <a:rPr b="0" lang="cs-CZ" sz="3200" spc="-1" strike="noStrike">
                <a:solidFill>
                  <a:srgbClr val="000000"/>
                </a:solidFill>
                <a:latin typeface="Calibri"/>
              </a:rPr>
              <a:t>„Transparency International“ Lietuvos skyriaus kuruojamas projektas:</a:t>
            </a:r>
            <a:r>
              <a:rPr b="0" lang="lt-LT" sz="3200" spc="-1" strike="noStrike">
                <a:solidFill>
                  <a:srgbClr val="000000"/>
                </a:solidFill>
                <a:latin typeface="Calibri"/>
              </a:rPr>
              <a:t> </a:t>
            </a:r>
            <a:r>
              <a:rPr b="0" lang="lt-LT" sz="3200" spc="-1" strike="noStrike" u="sng">
                <a:solidFill>
                  <a:srgbClr val="0000ff"/>
                </a:solidFill>
                <a:uFillTx/>
                <a:latin typeface="Calibri"/>
                <a:hlinkClick r:id="rId2"/>
              </a:rPr>
              <a:t>http://stirna.info/</a:t>
            </a:r>
            <a:r>
              <a:rPr b="0" lang="lt-L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eletas tezių, su kuriomis galima ginčyti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ų kūrimas – pelningas užsiėmi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ų komercializacija – svarbus naujienų rengimo veiksn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Du poliai – naujiena kaip verslas ir naujiena kaip žodžio laisvės išraiška – visuomet yra kart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Tyrinėjimo užduotis</a:t>
            </a:r>
            <a:endParaRPr b="0" lang="en-US" sz="4400" spc="-1" strike="noStrike">
              <a:solidFill>
                <a:srgbClr val="000000"/>
              </a:solidFill>
              <a:latin typeface="Calibri"/>
            </a:endParaRPr>
          </a:p>
        </p:txBody>
      </p:sp>
      <p:sp>
        <p:nvSpPr>
          <p:cNvPr id="70" name=""/>
          <p:cNvSpPr txBox="1"/>
          <p:nvPr/>
        </p:nvSpPr>
        <p:spPr>
          <a:xfrm>
            <a:off x="457200" y="15699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us kitus verslus valdo didžiausių žiniasklaidos priemonių savinink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m priklauso Jūsų miesto ir miestelio žiniasklaidos priemonės? Kaip tai gali veikti jų turin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ritinio mąstymo užduotis</a:t>
            </a:r>
            <a:endParaRPr b="0" lang="en-US" sz="4400" spc="-1" strike="noStrike">
              <a:solidFill>
                <a:srgbClr val="000000"/>
              </a:solidFill>
              <a:latin typeface="Calibri"/>
            </a:endParaRPr>
          </a:p>
        </p:txBody>
      </p:sp>
      <p:sp>
        <p:nvSpPr>
          <p:cNvPr id="72" name=""/>
          <p:cNvSpPr txBox="1"/>
          <p:nvPr/>
        </p:nvSpPr>
        <p:spPr>
          <a:xfrm>
            <a:off x="4698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omis žiniasklaidos priemonėmis Jūs pasitikite? Kurias iš jų naudojate pat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dėl pasitikite šia žiniasklaidos priem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m priklauso ši žiniasklaidos priemonė?</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nė užduoti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85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ivaizduokite, kad dirbate žiniasklaidos priemonėje, kurios savininkas turi sausainių kepyklą. Neseniai šios kepyklos produkcijoje rasta Lietuvoje vartoti uždraustų maisto papildų. Vartotojai nebenori pirkti šios kepyklos gaminių. Į redakciją atvažiuoja savininkas ir sako: </a:t>
            </a:r>
            <a:r>
              <a:rPr b="0" lang="cs-CZ" sz="3200" spc="-1" strike="noStrike">
                <a:solidFill>
                  <a:srgbClr val="000000"/>
                </a:solidFill>
                <a:latin typeface="Calibri"/>
              </a:rPr>
              <a:t>„Parašyk apie mūsų produkciją“.</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rašykite trumpą (iki 200 žodžių) straipsnį apie kepyklos produkciją ir susidariusią padėtį.</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nės užduoties aptarima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Ar Jūsų parašytas tekstas yra nešališkas (atspindi visas konflikto puses, atskleidžia faktą apie pažeidimą, kritiškai vertina kepyklos savininko veiksm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dėl parašėte būtent tokį tekst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ip manote, kokių pasekmių sulauksite už šio teksto parašym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as daro įtaką žurnalisto darbui?</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tatym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skaitytojų nuotaikos ir poreiki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inig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r k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as moka žurnalistui atlyginimą?</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Skaitytojai, pirkdami laikraštį ar žurnal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Žiniasklaidos priemonėje reklamą užsakančios organizacijos, verslo subjekta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Užsakomuosius straipsnius reklamoje spausdinančios organizacijos ir verslo subjekta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000" spc="-1" strike="noStrike">
                <a:solidFill>
                  <a:srgbClr val="000000"/>
                </a:solidFill>
                <a:latin typeface="Calibri"/>
              </a:rPr>
              <a:t>„</a:t>
            </a:r>
            <a:r>
              <a:rPr b="0" lang="cs-CZ" sz="3000" spc="-1" strike="noStrike">
                <a:solidFill>
                  <a:srgbClr val="000000"/>
                </a:solidFill>
                <a:latin typeface="Calibri"/>
              </a:rPr>
              <a:t>Rėmėjai“, aukojantys žiniasklaidos priemonei</a:t>
            </a:r>
            <a:r>
              <a:rPr b="0" lang="lt-LT"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Asmenys ir organizacijos, perkantys papildomas žiniasklaidos priemonės teikiamas paslaugas (pranešimų spaudai publikavimas, stebėsenos paslaugos ir pa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600" spc="-1" strike="noStrike">
                <a:solidFill>
                  <a:srgbClr val="000000"/>
                </a:solidFill>
                <a:latin typeface="Calibri"/>
              </a:rPr>
              <a:t>Kaip reklama, užsakomieji straipsniai ir rėmimas veikia turinį?</a:t>
            </a:r>
            <a:br>
              <a:rPr sz="3600"/>
            </a:br>
            <a:r>
              <a:rPr b="0" lang="lt-LT" sz="3600" spc="-1" strike="noStrike">
                <a:solidFill>
                  <a:srgbClr val="000000"/>
                </a:solidFill>
                <a:latin typeface="Calibri"/>
              </a:rPr>
              <a:t>(</a:t>
            </a:r>
            <a:r>
              <a:rPr b="0" lang="cs-CZ" sz="3600" spc="-1" strike="noStrike">
                <a:solidFill>
                  <a:srgbClr val="000000"/>
                </a:solidFill>
                <a:latin typeface="Calibri"/>
              </a:rPr>
              <a:t>„Nekąsk rankos, kuri tave maitina“</a:t>
            </a:r>
            <a:r>
              <a:rPr b="0" lang="lt-LT" sz="3600" spc="-1" strike="noStrike">
                <a:solidFill>
                  <a:srgbClr val="000000"/>
                </a:solidFill>
                <a:latin typeface="Calibri"/>
              </a:rPr>
              <a:t>)</a:t>
            </a:r>
            <a:endParaRPr b="0" lang="en-US" sz="3600" spc="-1" strike="noStrike">
              <a:solidFill>
                <a:srgbClr val="000000"/>
              </a:solidFill>
              <a:latin typeface="Calibri"/>
            </a:endParaRPr>
          </a:p>
        </p:txBody>
      </p:sp>
      <p:sp>
        <p:nvSpPr>
          <p:cNvPr id="48" name=""/>
          <p:cNvSpPr txBox="1"/>
          <p:nvPr/>
        </p:nvSpPr>
        <p:spPr>
          <a:xfrm>
            <a:off x="45720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gauna atlygį už reklamos transliavimą / publikavimą / rėmim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bijodama prarasti didelį reklamos užsakovą ir pajamas, ima jam pataikauti žurnalistiniuose tekstu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ima vengti publikuoti kritiškus tekstus, kurie gali pakenkti reklamos užsakovo verslu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000" spc="-1" strike="noStrike">
                <a:solidFill>
                  <a:srgbClr val="000000"/>
                </a:solidFill>
                <a:latin typeface="Calibri"/>
              </a:rPr>
              <a:t>Didelės vieno užsakovo reklamos apimtys, užsakomųjų straipsnių skaičius ar tai, kad žiniasklaidos priemonė turi rėmėjų, nebūtinai reiškia, kad jos žurnalistinis turinys kai kuriais atvejais bus šališkas, neatitiks žurnalistiniams tekstams keliamų reikalavimų. Tačiau skaitant tekstus, į tai verta atkreipti dėmesį.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500" spc="-1" strike="noStrike">
                <a:solidFill>
                  <a:srgbClr val="000000"/>
                </a:solidFill>
                <a:latin typeface="Calibri"/>
              </a:rPr>
              <a:t>Žiniasklaidos priemonės savininkas (leidėjas)</a:t>
            </a:r>
            <a:endParaRPr b="0" lang="en-US" sz="35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	</a:t>
            </a:r>
            <a:r>
              <a:rPr b="0" sz="3200" spc="-1" strike="noStrike">
                <a:solidFill>
                  <a:srgbClr val="000000"/>
                </a:solidFill>
                <a:latin typeface="Calibri"/>
              </a:rPr>
              <a:t>Žmogui neturi būti kliudoma ieškoti, gauti ir skleisti informaciją bei idėjas.</a:t>
            </a:r>
            <a:endParaRPr b="0" lang="en-US" sz="3200" spc="-1" strike="noStrike">
              <a:solidFill>
                <a:srgbClr val="000000"/>
              </a:solidFill>
              <a:latin typeface="Calibri"/>
            </a:endParaRPr>
          </a:p>
          <a:p>
            <a:pPr marL="343080" indent="-343080" algn="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Lietuvos Respublikos Konstitucija, 25 str.)</a:t>
            </a:r>
            <a:endParaRPr b="0" lang="en-US" sz="3200" spc="-1" strike="noStrike">
              <a:solidFill>
                <a:srgbClr val="000000"/>
              </a:solidFill>
              <a:latin typeface="Calibri"/>
            </a:endParaRPr>
          </a:p>
          <a:p>
            <a:pPr marL="343080" indent="-343080" algn="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Žiniasklaidos savininku gali būti kiekvienas žmo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Žiniasklaidos priemonės su šališkumo problema susiduria, kai žiniasklaidos savininkas turi verslo interesų kitose srity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ip kitos leidėjo veiklos gali daryti įtaką žiniasklaidos priemonės turiniui?</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mos tik pozityvios naujienos apie kitas savo verslo įmones, produktus ir k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ma tendencinga informacija apie verslo partnerius, jų įmones, produktus ir k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ma negatyvi informacija apie konkurentus, jų įmones, produktus ir k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gali tapti spaudimo įrankiu valdžiai bandant priimti kitiems leidėjo verslams nepalankų įstatymą.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Norint kritiškai įvertinti naujieną reikia žinoti kontekstą:</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os organizacijos ar asmenys reklamuojasi leidiny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os organizacijos ar asmens užsakymu spausdinami užsakomieji straipsni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ą be žiniasklaidos priemonės leidybos veikia jos savinink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a leidinio deklaruojama ideologij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Verslo interesų keliama rizika žodžio laisvei</a:t>
            </a:r>
            <a:endParaRPr b="0" lang="en-US" sz="4400" spc="-1" strike="noStrike">
              <a:solidFill>
                <a:srgbClr val="000000"/>
              </a:solidFill>
              <a:latin typeface="Calibri"/>
            </a:endParaRPr>
          </a:p>
        </p:txBody>
      </p:sp>
      <p:sp>
        <p:nvSpPr>
          <p:cNvPr id="57" name="TextBox 4"/>
          <p:cNvSpPr/>
          <p:nvPr/>
        </p:nvSpPr>
        <p:spPr>
          <a:xfrm>
            <a:off x="1452600" y="1752480"/>
            <a:ext cx="6934320" cy="1068840"/>
          </a:xfrm>
          <a:prstGeom prst="rect">
            <a:avLst/>
          </a:prstGeom>
          <a:gradFill rotWithShape="0">
            <a:gsLst>
              <a:gs pos="0">
                <a:srgbClr val="ff9a99"/>
              </a:gs>
              <a:gs pos="100000">
                <a:srgbClr val="d1403c"/>
              </a:gs>
            </a:gsLst>
            <a:lin ang="5400000"/>
          </a:gradFill>
          <a:ln w="9360">
            <a:solidFill>
              <a:srgbClr val="be4b4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Lietuvoje verslą turintis ir žiniasklaidos priemonę valdantis verslininkas</a:t>
            </a:r>
            <a:endParaRPr b="0" lang="en-US" sz="3200" spc="-1" strike="noStrike">
              <a:solidFill>
                <a:srgbClr val="000000"/>
              </a:solidFill>
              <a:latin typeface="Arial"/>
            </a:endParaRPr>
          </a:p>
        </p:txBody>
      </p:sp>
      <p:sp>
        <p:nvSpPr>
          <p:cNvPr id="58" name="TextBox 5"/>
          <p:cNvSpPr/>
          <p:nvPr/>
        </p:nvSpPr>
        <p:spPr>
          <a:xfrm>
            <a:off x="1452600" y="2982960"/>
            <a:ext cx="6934320" cy="1068840"/>
          </a:xfrm>
          <a:prstGeom prst="rect">
            <a:avLst/>
          </a:prstGeom>
          <a:gradFill rotWithShape="0">
            <a:gsLst>
              <a:gs pos="0">
                <a:srgbClr val="dcffa0"/>
              </a:gs>
              <a:gs pos="100000">
                <a:srgbClr val="a0ca4a"/>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Užsienio kapitalo bendrovė valdo žiniasklaidos priemonę Lietuvoje</a:t>
            </a:r>
            <a:endParaRPr b="0" lang="en-US" sz="3200" spc="-1" strike="noStrike">
              <a:solidFill>
                <a:srgbClr val="000000"/>
              </a:solidFill>
              <a:latin typeface="Arial"/>
            </a:endParaRPr>
          </a:p>
        </p:txBody>
      </p:sp>
      <p:sp>
        <p:nvSpPr>
          <p:cNvPr id="59" name="TextBox 6"/>
          <p:cNvSpPr/>
          <p:nvPr/>
        </p:nvSpPr>
        <p:spPr>
          <a:xfrm>
            <a:off x="1452600" y="4211640"/>
            <a:ext cx="6934320" cy="106884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Žiniasklaidos priemonė – vienintelis jos savininko pragyvenimo šaltinis</a:t>
            </a:r>
            <a:endParaRPr b="0" lang="en-US" sz="3200" spc="-1" strike="noStrike">
              <a:solidFill>
                <a:srgbClr val="000000"/>
              </a:solidFill>
              <a:latin typeface="Arial"/>
            </a:endParaRPr>
          </a:p>
        </p:txBody>
      </p:sp>
      <p:sp>
        <p:nvSpPr>
          <p:cNvPr id="60" name="TextBox 7"/>
          <p:cNvSpPr/>
          <p:nvPr/>
        </p:nvSpPr>
        <p:spPr>
          <a:xfrm>
            <a:off x="1452600" y="5442120"/>
            <a:ext cx="6934320" cy="10688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Visuomeninis transliuotojas, valdomas visuomenės, mokslo ir kultūros veikėjų</a:t>
            </a:r>
            <a:endParaRPr b="0" lang="en-US" sz="3200" spc="-1" strike="noStrike">
              <a:solidFill>
                <a:srgbClr val="000000"/>
              </a:solidFill>
              <a:latin typeface="Arial"/>
            </a:endParaRPr>
          </a:p>
        </p:txBody>
      </p:sp>
      <p:cxnSp>
        <p:nvCxnSpPr>
          <p:cNvPr id="61" name="Straight Arrow Connector 9"/>
          <p:cNvCxnSpPr/>
          <p:nvPr/>
        </p:nvCxnSpPr>
        <p:spPr>
          <a:xfrm flipV="1">
            <a:off x="992520" y="1753920"/>
            <a:ext cx="2520" cy="4766400"/>
          </a:xfrm>
          <a:prstGeom prst="straightConnector1">
            <a:avLst/>
          </a:prstGeom>
          <a:ln w="25560">
            <a:solidFill>
              <a:srgbClr val="4f81bd"/>
            </a:solidFill>
            <a:miter/>
            <a:tailEnd len="med" type="arrow" w="med"/>
          </a:ln>
        </p:spPr>
      </p:cxnSp>
      <p:pic>
        <p:nvPicPr>
          <p:cNvPr id="62" name="TextBox 10" descr=""/>
          <p:cNvPicPr/>
          <p:nvPr/>
        </p:nvPicPr>
        <p:blipFill>
          <a:blip r:embed="rId1"/>
          <a:stretch/>
        </p:blipFill>
        <p:spPr>
          <a:xfrm>
            <a:off x="536400" y="2182680"/>
            <a:ext cx="506520" cy="2256120"/>
          </a:xfrm>
          <a:prstGeom prst="rect">
            <a:avLst/>
          </a:prstGeom>
          <a:ln w="0">
            <a:noFill/>
          </a:ln>
        </p:spPr>
      </p:pic>
      <p:pic>
        <p:nvPicPr>
          <p:cNvPr id="63" name="TextBox 8" descr=""/>
          <p:cNvPicPr/>
          <p:nvPr/>
        </p:nvPicPr>
        <p:blipFill>
          <a:blip r:embed="rId2"/>
          <a:stretch/>
        </p:blipFill>
        <p:spPr>
          <a:xfrm>
            <a:off x="225360" y="6076800"/>
            <a:ext cx="841320" cy="513000"/>
          </a:xfrm>
          <a:prstGeom prst="rect">
            <a:avLst/>
          </a:prstGeom>
          <a:ln w="0">
            <a:noFill/>
          </a:ln>
        </p:spPr>
      </p:pic>
      <p:pic>
        <p:nvPicPr>
          <p:cNvPr id="64" name="TextBox 11" descr=""/>
          <p:cNvPicPr/>
          <p:nvPr/>
        </p:nvPicPr>
        <p:blipFill>
          <a:blip r:embed="rId3"/>
          <a:stretch/>
        </p:blipFill>
        <p:spPr>
          <a:xfrm>
            <a:off x="12600" y="1828800"/>
            <a:ext cx="981000" cy="51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9T01:12:14Z</dcterms:created>
  <dc:creator>Egidijus Jurgelionis</dc:creator>
  <dc:description/>
  <dc:language>en-US</dc:language>
  <cp:lastModifiedBy>Gražina Jurgutavičiūtė</cp:lastModifiedBy>
  <dcterms:modified xsi:type="dcterms:W3CDTF">2015-12-28T12:10:25Z</dcterms:modified>
  <cp:revision>57</cp:revision>
  <dc:subject/>
  <dc:title>Žodžio laisvė ir verslas</dc:title>
</cp:coreProperties>
</file>